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84EF-9B81-46E1-BA07-062A59AB09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7B8A-BF0F-4818-93CD-69964B198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B86E-1751-4976-A2AD-AFD43551A39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035F-ED12-462B-B385-3E31D667F42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DDA9-083E-4341-BCDA-025287559C1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C6BF-EEEC-46F2-A683-3662BDB86A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16BB-EDA5-49BB-9208-E832D6944AB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8226-72CB-4487-8B69-E3DBA492254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B696-9A16-403A-8AB1-87D78A22141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A5A-E4B2-49F8-B54D-FAA92B3F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2730-EC5D-4C7B-9C4D-3037538B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ACA-3C48-4365-9E18-FBE7021F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A9A-9FBA-4819-98BA-97A39FDF6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938F-5F16-45D5-8F8A-7BC5AC5C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2B6B-E69C-449B-824D-A2298C07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8900-7850-424B-A830-B201F636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FD7D-A351-4A5F-A047-13C8F131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9C67-15FA-4B32-B833-7F726440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B119-591A-4EEB-A126-03017B4D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42C0-FEC3-4AB4-AD31-F2BD712C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011-5A6A-4EAA-BFB1-64DC2D4F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E3CA-DF91-4552-AE27-18C4C178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FED4-F7CF-4ABB-A8D1-956F83F9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BF95-C4D9-4E59-837E-2837DA32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CA876-3CE8-494B-BFEE-5EAAED94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FC3C-54BE-4997-8624-6138B345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397-A11A-4F68-854A-3DFBE871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39D-71CE-46C3-A01B-20503719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30AF-8D3F-40EE-8440-B440AC3A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7013-75AD-4F86-80BA-FA393F2F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B579-9F54-4966-9E69-70D10636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8F5-689D-4403-AA93-2DC0F234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2952-EC12-4891-95B3-97912C4B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089F-EEE7-439C-9DFE-A6B39CDEC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C133-6EF5-49C4-AB46-270A6FE479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Religious Literacy and the Public School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st, Present, &amp; Fu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ligious Literacy Quiz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140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 the four Gospels. List as many as you ca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 a sacred text of Hinduis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is the name of the holy book of Islam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ere according to the Bible was Jesus born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esident George W. Bush spoke in his first inaugural address of the Jericho road. What Bible story was he invoking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are the first five books of the Hebrew Bible or the Christian Old Testament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is the Golden Rul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"God helps those who help themselves": Is this in the Bible? If so, wher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"Blessed are the poor in spirit, for theirs is the kingdom of God": Does this appear in the Bible? If so, wher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 the Ten Commandments. List as many as you ca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 the Four Noble Truths of Buddhis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are the seven sacraments of Catholicism? List as many as you ca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First Amendment says two things about religion, each in its own "clause." What are the two religious clauses of the First Amendment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45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is Ramadan? In what religion is it celebrated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ligious Literacy Quiz Answer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tthew, Mark, Luke, John (1 point each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an include the Vedas, Brahmanas, Aranyakas, Upanishads, Puranas, Mahabharata, Bhagavad Gita, Ramayana, Yoga Sutras, Laws of Manu, Kama Sutra (1 point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Quran (1 point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ethlehem (1 point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Good Samaritan (1 point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Genesis, Exodus, Leviticus, Numbers, Deuteronomy (1 point each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"Do unto others as you would have them do unto you" (Matthew 7:12) or a similar sentiment from Rabbi Hillel or Confucius. ("Love your neighbor as yourself" is not the Golden Rule.) (1 point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, this is not in the Bible. In fact, it is contradicted in Proverbs 28:26: "He who trusts in himself is a fool." The words are Ben Franklin's. (2 point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Yes, in the Beatitudes of Jesus' Sermon on the Mount (Matthew 5:3) (2 point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he Protestant, Catholic and Jewish versions of the Ten Commandments differ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. Life is suffering, 2. Suffering has an origin, 3. Suffering can be overcome (nirvana), 4. The path to overcoming suffering is the Noble Eightfold Pla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aptism, Eucharist, Reconciliation, Confirmation, Marriage, Holy Orders, Anointing of the Sick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"Congress shall make no law respecting an establishment of religion, or prohibiting the free exercise thereof.”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4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uslim holiday characterized by a month of fasti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Pas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Amendment righ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igious views informed the public debate on major issu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ol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mpe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men’s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vil r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Presen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paration of Church and State doctrine dominates decision mak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jor public issues with religious viewpoint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or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rth cont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pital punish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y marri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4343400" y="4202280"/>
            <a:ext cx="449568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Global w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ntelligent desig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ilitary/Foreign poli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Welfare polic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ls for Education Re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hics/Values Edu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igious Literacy of major world relig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Literacy of World Religio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-9/11 apathy, general ignorance, limited under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ld religion as subject matt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ing reli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ing about relig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Studies curriculu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igion in world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thics and Values in Educ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ilosophical origins of Western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rates, Aristotle, Aquin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storical church schools – morality, values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fter Virtu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1981) by Alasdair MacIntyre book proposes an Aristotelian account of practice and virt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al education in the practice of shared virtues can itself be a viable practice in our plural society.” Katsushige Kataya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Questions for Discuss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we need to add world religions literacy to social studies curricul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we need to add moral values education to curricul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ill you personally live your beliefs while serving as a professional public educato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01:27Z</dcterms:created>
  <dc:creator>Vanessa Jakse</dc:creator>
  <dc:description/>
  <dc:language>en-US</dc:language>
  <cp:lastModifiedBy>Campus Computing Sites</cp:lastModifiedBy>
  <dcterms:modified xsi:type="dcterms:W3CDTF">2009-07-28T15:25:38Z</dcterms:modified>
  <cp:revision>13</cp:revision>
  <dc:subject/>
  <dc:title>Religion and the Public Schools</dc:title>
</cp:coreProperties>
</file>